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60-2D26-47C5-875D-E808761B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571-558F-446F-98B6-8934661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E87-4C9E-4AAF-9D8A-39C3131C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629-68AF-42AF-8B51-14620F8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FADB-DFC3-46A1-BCC3-FCCC4BFF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F9BD-7932-4A93-8159-EAF0EC5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E2FB-D81D-4F82-AF68-8BA9F50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E9D-A5BB-4473-974C-AE8604FD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AC36-5057-468C-9DAC-B97B974A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361-41E3-4353-A013-120BB513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57F6-2715-4F3F-9927-361390B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A29-6801-4ED7-B7EC-7BD3F79D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574B-78C7-4648-A841-27E09B6B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536-33C7-4684-9BBF-46F1C92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FFB-293B-4854-9166-6BDB0F5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054-9714-4559-84A3-9F662ACB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C8B-D149-439D-9772-5087C6DD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850-50C4-4E42-8A83-7C2AA94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2B8-C457-4503-B05B-45C809E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B7D-DF4F-438F-8D84-D7D965CD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B99-F9D8-4014-AFE0-7DEB82F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327-E2B1-4340-8125-76ECB96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937-0F7A-4111-932D-DA8C190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A69-9037-482D-93B3-B54B5E5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7E02-0840-40A7-B89A-28A28E0DA92C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DABC-5698-49DD-B35E-C515A413782A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awa.k12.wi.us/LWHS/Staff/Staff/Kelly%20Koller/General%20Tutorials/How%20to%20read%20a%20ruler.ht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odzone.com/articles/ruler_image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Fractions and Ruler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ractions on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ing a Rule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lit into Two Group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Jigsaw Group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mputer Group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ork on your assignments for 15 minutes and then we will switch groups for the next 15 minute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to Read a Ruler Jigsaw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ach group will have copies of a 4 different article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ach person chooses one of the 4 articles to read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hare what you read with the group and do the example problems with the ruler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mplete Practical Problems Worksheet, correct, and review error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How to Read a Ruler Internet Tutorial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lassroom or Computer Laborator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og-in and go to the website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lete Tutorial and 8-Question Practice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lete Practice Sheets, check answers with your group members and make correction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Times New Roman"/>
                <a:hlinkClick r:id="rId1"/>
              </a:rPr>
              <a:t>http://www.manawa.k12.wi.us/LWHS/Staff/Staff/Kelly%20Koller/General%20Tutorials/How%20to%20read%20a%20ruler.htm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uler Ga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nish the Tutorial/practice and handout Practice Sheet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on the Ruler Game at the bottom of the screen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lay the game until directed to stop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losure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Exit Ticke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On the index card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ame or describe one activity that we did today that helped you to understand the mathematics and explain why you think it helped you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ame or describe one activity that you did not find helpful and would rather not do again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tiona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nstruction trades use rules and rulers for measurement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tandard Rulers are divided into quarters, eighths, and sixteenth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ecision measurement is the standard for quality work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lace Fractions on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 a Ruler with halves, fourths, eighths, and sixteenth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ake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ing a Ruler and Practic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uler Internet Activitie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reating a Fractional Number Lin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emonstration – using card strips and marke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Group Pract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dividual Pract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ractions on a Number L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Draw a number line and place these fractions between 0 and 1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½ and 2/2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¼ and ¾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/8, 3/8, 5/8, and 7/8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/16,  3/16, 5/16, 7/16, 9/16, 11/16, 13/16, and 15/16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Make it </a:t>
            </a:r>
            <a:r>
              <a:rPr b="0" i="1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large</a:t>
            </a: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 enough for you to work with and you may use color markers.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Number Line Discussion Questions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o any of the fractions fall on the same place on the number line? Explain your answer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ere would fractions like: 2/4, 2/8, 6/8, 4/16, or 6/16 fall on the number line? How do we explain this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happens to fractions that fall beyond 1 on the number line? Beyond 2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ow many fractions are there on the number lin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an all the fractions fit on the number lin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590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ch and Fra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17960" y="762120"/>
            <a:ext cx="4457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Tape Measure Exampl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609480"/>
            <a:ext cx="2132280" cy="5715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3880" y="1752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03:26Z</dcterms:created>
  <dc:creator>MCTI</dc:creator>
  <dc:description/>
  <cp:keywords/>
  <dc:language>en-US</dc:language>
  <cp:lastModifiedBy>MCTI</cp:lastModifiedBy>
  <dcterms:modified xsi:type="dcterms:W3CDTF">2010-01-15T13:21:31Z</dcterms:modified>
  <cp:revision>17</cp:revision>
  <dc:subject/>
  <dc:title>Fractions and Ru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33</vt:lpwstr>
  </property>
</Properties>
</file>